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100-A9D8-472A-8F4D-125F881B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3C3-AF25-46DE-AC73-DC205DBB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F24-E972-49F9-96F1-B79BCFE1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2CD-6582-4450-B0C0-F62D048B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637-C96B-4FC2-B96D-8A314B3D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446-148E-4734-94D7-48AA10F8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946C-992D-4413-A1FE-871C098E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EF3-A5C3-47BB-8950-EF1E5875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453-03BE-454E-B29D-8CEC24F6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D12-D31A-4C0D-91C1-CBEC28BD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34E-EB7C-434E-B279-3FAA4273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0F0-DBC6-4173-9F5B-C9696E99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56D7-54FA-4678-B425-8373DB83E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inance.yahoo.com/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M 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Engineering Econo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BB7-2DE2-4FF3-9A71-5BBF38363E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lide_rule" descr=""/>
          <p:cNvPicPr/>
          <p:nvPr/>
        </p:nvPicPr>
        <p:blipFill>
          <a:blip r:embed="rId1"/>
          <a:stretch/>
        </p:blipFill>
        <p:spPr>
          <a:xfrm>
            <a:off x="685800" y="520560"/>
            <a:ext cx="7620120" cy="574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CE0-FD2C-4BB8-8E31-CC6BB543D9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use formulas and tables when you use a slide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class will cover formulas and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 review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n appendix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F7C-BCA0-4796-AF0D-92F77DBDA1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% 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similar spread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2BB-7CB4-4AF4-AA7C-5B5BC69C60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rrow $4000, Repay in 4 y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payments on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only payments each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annual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nothing until 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C0C-E316-4388-B35E-F9B4F37870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158760"/>
          <a:ext cx="9207360" cy="48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760"/>
                    <a:ext cx="920736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E7F-A3BF-4190-A00A-4CBD54C05E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533520"/>
          <a:ext cx="914400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8B5-40D3-4A86-90BC-AE689517EA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380880"/>
          <a:ext cx="914400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364-9F1A-48B9-AAAE-067CD30138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380880"/>
          <a:ext cx="91440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8A8-CA4A-4D4D-B943-47EA3A8F26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payments on princip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only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,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annual payments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,0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until the e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5,8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D36-12C3-4AF5-8D1E-FBB05CF068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preadsheet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438280"/>
            <a:ext cx="7086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@PV(pmt, rate, np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@RATE(fv, pv, np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@PMT(rate, nper, pv,&lt;fv&gt;,&lt;type&gt;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9DD-E614-4D57-9FF2-28F168EB0E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e Investment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defined, bett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criteria for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need to analyze the dif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future cash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k costs (e.g. stock mar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7F7-B912-4735-BE65-B0FEC7AFA1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S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S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684-1FC5-4EF4-A0F1-8350E033A6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um Attractive Rate of Return (MARR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ower than market 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r money could earn els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best answer, for your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for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94D-D2EE-4409-B1C4-BD0ED83145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Accounting (5 minut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s period, say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in time, say year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y = Assets –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some on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finance.yahoo.com/?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, Exc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66D-C767-4924-AD92-F009EE7AE5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e MARR from financial rec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on Investment (before ta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year’s net income / last year’s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o estimate MARR fo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year’s interest / last year’s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of C + 3% estimate MAR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2F5-5F9D-4E4E-99BA-DAC58500D9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roblem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row $75,000 for a new Beam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y in 36 equal monthly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 18% per year, compounded mont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Example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9CE-25CC-4439-8704-46C7D16153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roblem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will a series of ten semi-annual $1000 payments compound to, six months after the last payment if interest is six percent per year, compounded semi-annuall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4DF-78E8-4E8A-9DD1-4B5946CD4B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roblem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il Companies are studying the feasibility of building a pipeline to deliver North Slope natural gas to the Lower 48.  If the cost of building the line is $18 billion, and the MARR is 15%, what must the U.S. market gas price be in order to justify its constru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F05-1A88-437A-B98E-61512B1EFA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of Intangi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ony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ang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redu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si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duced to $$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, “Semi-quantitativ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dow Pr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4A8-94C3-47C4-AB5D-2F70BE9016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est and Equi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y has a time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ation….Bank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ce at some rate of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A64-325A-4E22-A183-54261122FB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est =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nnual rate if not stated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” or “nomina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ing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= (1+r/m)^m -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r = nominal, m = number of peri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even i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D78-9AFF-4F38-9909-BC530BA4F3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Interest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%/Year, compounded mont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  = nominal interest rate = 1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= number of periods = 12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effect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1 + r/m)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1 + 0.12 / 12)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.6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7B0-732A-4E45-AC58-D23CFF5DC1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s (+) = income, (-) =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ime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consistent with “point of view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of period co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FAB-C3F5-4B70-A1D7-2841B190C8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2590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705720" y="12949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590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8006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4800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705720" y="3505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4800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800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62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9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30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6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4800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4A6-A6B2-460A-B7B2-5585BB6506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ways to sol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s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spreadsheets (Ex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8F5-C54F-4F91-9FBD-15FBB0663E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03:46:19Z</dcterms:created>
  <dc:creator>Robert A. Perkins</dc:creator>
  <dc:description/>
  <dc:language>en-US</dc:language>
  <cp:lastModifiedBy>Robert A. Perkins</cp:lastModifiedBy>
  <cp:lastPrinted>2002-01-21T06:05:38Z</cp:lastPrinted>
  <dcterms:modified xsi:type="dcterms:W3CDTF">2005-09-06T00:41:06Z</dcterms:modified>
  <cp:revision>11</cp:revision>
  <dc:subject/>
  <dc:title>ESM 450</dc:title>
</cp:coreProperties>
</file>